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521D-1079-4502-9DDD-33D266041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F0AA-21B0-4334-9797-81C3AA03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A411-DB30-47C3-B71B-3565C6723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029B-1ABF-4ED4-8A69-A628D1EB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B162-615E-4388-9998-4096BB2F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D4E6-A3A3-4B21-9164-87B47871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49B2-9AB1-4555-A80D-91580C53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357B-228F-4B25-AF1E-BBEB950A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0C6C-FC7F-409F-B3C2-93A51DA2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F02C-BB78-47F1-A920-DD47C54C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45B0-F4CB-4516-81BA-5CCE6E59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6049-BF37-4AC1-A6B3-D5832E12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731C-4D85-4F1F-A221-47C57C52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4547-EFF5-4C15-B404-A45B7B41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85E6-5AB3-4F06-9C69-F200F173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5DEB-FCE2-47B3-A6B2-81F6D086E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EA1F-81A6-4747-9D93-ADEE2FBCF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4108-C95A-480F-9855-A7CCB9CA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B7C2-2021-49B8-A57D-C55126F3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D7E4-AA24-49A6-9751-3B1FD01C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0912-64F4-464F-90E7-56F6750C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A4D1-38B8-477E-8B9C-237C2D90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51FC-D646-4473-8E2E-80912D2F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C2EA-3F1C-4503-AFC9-FF92285E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3792-F1EB-4D89-AF8B-275B790F541A}" type="slidenum">
              <a:rPr b="1" lang="sr-Latn-C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EE39-1522-465E-8CEC-A8D0435217BC}" type="slidenum">
              <a:rPr b="1" lang="sr-Latn-C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asa</a:t>
            </a:r>
            <a:r>
              <a:rPr b="1" lang="sr-Latn-CS" sz="3600" spc="-1" strike="noStrike">
                <a:solidFill>
                  <a:srgbClr val="003366"/>
                </a:solidFill>
                <a:latin typeface="Arial"/>
              </a:rPr>
              <a:t>ža sportis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076720" y="5445000"/>
            <a:ext cx="338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6666"/>
                </a:solidFill>
                <a:latin typeface="Arial"/>
              </a:rPr>
              <a:t>Доц</a:t>
            </a:r>
            <a:r>
              <a:rPr b="0" lang="sr-Latn-CS" sz="2400" spc="-1" strike="noStrike">
                <a:solidFill>
                  <a:srgbClr val="006666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06666"/>
                </a:solidFill>
                <a:latin typeface="Arial"/>
              </a:rPr>
              <a:t>Др</a:t>
            </a:r>
            <a:r>
              <a:rPr b="0" lang="sr-Latn-C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6666"/>
                </a:solidFill>
                <a:latin typeface="Arial"/>
              </a:rPr>
              <a:t>Тања</a:t>
            </a:r>
            <a:r>
              <a:rPr b="0" lang="sr-Latn-C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6666"/>
                </a:solidFill>
                <a:latin typeface="Arial"/>
              </a:rPr>
              <a:t>Луковић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08560" y="808920"/>
            <a:ext cx="7831080" cy="64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ev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57160" y="24285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Služi da pripremi sportistu z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event,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da poveća mehaničku efikasnost tela sportis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neposredno pred aktuelno zbivanj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 h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ili krać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ximal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n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10–20 m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Površnije,  brže od pulsa,na specifične mišićne gru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Može početi na najaktivnijim mišićima, pa prelazi na manje aktiv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Ne koristi hvatove sa jačim pritiskom,nego neža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stretching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važnih mišićnih grupa i fascija,da olakša pokretljivost i u zglob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interevent massage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dnosi se na takmi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j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e ili kad zbivanje traje nekoliko da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smanjuje nepotrbnu tenziju i pomaže sportisti da se priprem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0–15 min tra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Blaga,udobna i podsticajna za sportistu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kusirana na najvažnije mišićne grupe za svaki sport pojedinač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kombinacij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re  and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tevent massag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stevent massage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nimum 20 min cool-down routine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po završetku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nse longer sports ev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Pratiti znake hipotermije ili hipertermij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ortista mora da se hidrira pre i u toku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event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pogotivu dugotrajnih ili dogadjaja na visokoj temperatur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Ne masiraju se duboko postavljena tki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Ograničena je na maximanih 15 m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00040" y="2428920"/>
            <a:ext cx="771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Blago i srednje istezanje je uključeno u masaž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Kontraindikacije za masažu sportis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brilna stan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kutna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a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ljen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Otvorene rane i upa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Duboka masaža direktno na varikozne ve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hlebothrombo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Kožne boles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ontraindikacij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uber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kuloza ili drug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a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kterijsk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fe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kci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,Svezi,, koštani prelom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pture  m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išića,tetiva ili ligamenat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Trudnoća,naročito u prva tri mese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Malignit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Svaki fizički ili fiziološki poremećaj koji se može pogoršati sport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2" descr="Lak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0" y="175248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Iskustva u primeni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GELADRINK® Fast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i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GELADRINK® Fort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2" descr="Lake"/>
          <p:cNvPicPr/>
          <p:nvPr/>
        </p:nvPicPr>
        <p:blipFill>
          <a:blip r:embed="rId2"/>
          <a:stretch/>
        </p:blipFill>
        <p:spPr>
          <a:xfrm>
            <a:off x="0" y="54000"/>
            <a:ext cx="9360000" cy="7020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216000" y="198900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fo</cp:lastModifiedBy>
  <dcterms:modified xsi:type="dcterms:W3CDTF">2014-10-30T12:15:55Z</dcterms:modified>
  <cp:revision>158</cp:revision>
  <dc:subject/>
  <dc:title>PowerPoint Presentation</dc:title>
</cp:coreProperties>
</file>